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217-9FAF-40B7-87A4-5A265394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D1A-F03F-4A74-9D95-1471E88A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B90AE-0248-4B3B-A181-2E4A866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E5550-905B-4C47-B574-043D2F69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90EFC-F809-4CE1-8F01-42D4C5B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31FAA-F172-440B-A1F8-4BEDA514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F575E-D2D6-4B55-96B1-B64BC38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916A6-9EF1-4F60-B619-89822AE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04F55-F98C-4B71-9E0D-6CF3DAB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36C0C-BDC5-4B45-BE35-9E741F2A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7AE31-C146-4C72-84F7-4C13A48D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0A2D7-44A0-4922-8634-9AFDB7B6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805-147A-435A-B147-D77ADBB5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5284D-8927-4EFE-9ECF-4B2B3B7A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1203D-9099-4BA0-B001-E819B66C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E99CB-65B5-472F-A7EF-98B2D74A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49E03-A9DF-456E-BC14-D267681A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CBCAB-8FBC-41F7-8D9F-1251A53A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2FC25-972D-421C-B150-9B65050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21D78-8F4F-4E70-ADED-FCCB8CF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C813D-C53E-4471-AAC0-37B03E3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6D6C3-3917-4580-8947-454EA02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BC665-8561-44F8-87C8-9B9894C6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AC2-D506-4532-A641-9AF2AD40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6D9F5-EC23-402F-B837-95C27E4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4FC43-C2A9-449C-9B8A-A12D85A4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5B370-89A2-4D51-99DB-A8661FBA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D7070-1516-4F84-8EB6-AEAD6B8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D6D41-B966-4BB4-9B73-4B4AFBFC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6C37-EF4B-4329-BEF2-160AF542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28AB7-9604-493A-9619-7C894908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071C-7366-4DEC-9D1A-CE0B5354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75581-A67A-4A8D-BD7A-69001D47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F69AC-D0E7-4D0F-BC47-4597768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BD47-A7DC-40F7-9163-2862DC8A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0396-5E93-45DE-8C3C-F61527E2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46EEF-B386-4D21-B5A0-573980E2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C4F17-FF5B-4322-A4EB-F9680CB6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BA7A1-45D5-4489-A82C-64D123FA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6E426-BFFD-4EF7-9548-78BDA542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C0950-C203-436D-B494-34AC660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06B92-04CB-4246-8A9F-349F87E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CC680-50FA-4441-B9E0-22B1456F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5F348-28E3-4A04-8D6D-64BD337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43299-7487-4A4A-8DAA-83CD68F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0C61-4D59-423B-968C-1B02F9B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20D0B-69FF-49D0-8B8F-94E525E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72BF8-64DC-490D-B1FF-771D0BD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57579-2D1D-46B5-A42C-C4CE3F2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7CF46-BAE4-44BF-B796-668875BB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88CBF-D98C-4F27-833A-DD2D166F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475E-94B1-4794-A647-41C2C774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8041-C8D6-448F-804F-C91AC075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3C63-8E7D-447F-8654-E2111731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A421-3A6C-4AEB-8539-10B02E1D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0C4C-7402-448B-8D0C-5AA33A6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01B-44DB-4F80-B186-F13285A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809-4C6D-43EC-852B-584C5FB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84D6-D5ED-4488-AB76-7E35C1A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28E1-9FED-40A1-AD49-11881543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A1C8-188D-47F8-9C22-633B1933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45B-061E-48B6-8473-32B6BE84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41CE-F974-4F1C-8B7C-55E138DE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FFA8-7CCF-4071-9216-6776CCA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9330F-DA8E-400B-9EF2-C1AC2F8B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7C11-D5C5-4778-9C0F-4A6EA028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1ADB-A194-43BD-8197-24FD35AE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359-6CDC-494E-BBE7-26479456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E09C-04A1-4A33-B1E9-2F7B2D5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FDE4-A52E-46F8-9204-77DC163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BE0B-954E-4B11-8DEC-BD309D65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0945-BF4F-46E1-80B5-5E8F2D4C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B5C3-D4C5-4D5D-A28E-0F9991E0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40BA-EE4D-4868-918C-9173840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4573-7F29-441B-AFB4-07F579CF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93FB2-7A8F-4428-A3E7-44BB2B9D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33C0-7B1F-4AD0-80D7-A6075355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A90A-461A-4F3A-8E8F-3D98C889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AB7-C8E6-44F0-B11A-5B8236A2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F56F4-B113-4609-8B0C-ADFD27F8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E8500-444A-4EC7-BDC2-1F681D94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CEB6-E476-49B6-8B66-CCBE572E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B956-A048-485A-BF7D-BBE9C71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1EDF-1882-4116-B7C7-BAAFB34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10C8-7BA6-450A-9793-9F9003D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E0CE-97DC-4F87-8A74-EEB620B3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F004-9322-410A-8E04-CF87382D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CA40-7171-4FEB-B726-1690A918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95EF-5C93-43E7-9437-40D21121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EB6-DB43-440B-AD42-C827F89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3410-EFBD-43F4-8B58-7917874C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8C02-A4D4-4340-9961-D1B25A6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CECF-2CB3-401A-A6C2-E2EDC7C1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B13F-9909-48DF-9631-83F771DF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2BEC0-B7C1-4AA7-A3D6-ECD39DC6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337E-A568-4927-A943-B7E078E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8172-3880-46AE-98B0-B7C403D4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7237-C4B6-4B77-9CAE-FA09D61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0C81-DD1C-4B15-A916-B4E32322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6887-E8AF-4362-BDE6-3985396E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14D-971B-491C-A943-84C68AD7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971D-6EFC-4066-9C7B-31141874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CA76-CC00-452B-8EB5-430D82D3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97D1-BC31-428D-9F15-9DE6BDCA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AA9D0-AC02-49A5-A0F0-4BA22DB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204C-0417-4DA3-9A70-8D01AEC9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E64A-8791-4F19-9461-99653251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33ADE-DBD6-42A9-B8CD-F58232AA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20D1-CAA6-4DBC-930C-1C9FC853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D8A7-A7A8-4970-B5C6-5D01774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4EDB9-3C11-4B83-8900-7651DC8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E1D-9822-42B2-AD2F-6EC62E3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C7DD-5F4E-4257-AE14-57350DC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E89A-F5E3-4CA9-8444-1D75959A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22D1-009A-4D76-A1CA-E618C551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E83BE-28ED-428E-8DB1-477EFD18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3D672-F5AA-4D2D-890B-E1969126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5380F-DEDA-4D43-8E03-55646ED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5F43F-E614-4D6B-A121-328E8CC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ED0C8-A6F4-4811-9154-5595ED3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7706-C608-4B75-90A6-C5FBD0C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A7CF-6F19-404E-ACE2-FE3432A0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6ED-8318-4C87-BFED-0366414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2180-226C-4A97-B96D-D856C0B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F602-FDD7-48B4-94B2-119D29B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A958A-2910-43AC-BBD1-FB23EFD9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6F49-5389-45FC-9CEC-6B4E698B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9AA32-8ED0-435C-8B51-0803876B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5F03-1C87-41D9-8CF8-79731966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E34A-18E8-4E3C-A87A-D12973A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9301B-D928-40BA-80BC-D63C086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E285-4619-4CC4-9CFC-AB4D6105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64B6-D36E-4987-949D-1636861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863-0174-4EE6-8D2A-D479414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EB080-C463-4431-B764-3877E3AD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544B-C114-4FF8-A890-EC7EFD8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92F97-689D-45A4-A651-BCFBEF7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40F8-21FD-4980-AFD3-31A35ED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7EC3-FCFF-4243-A971-5F9A6F5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03C1-8AA4-4300-9A30-DC93D27D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351D3-E48F-4D8E-A6C8-9CE0D923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0B4C1-3FDC-4C56-A71F-7CD7119D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C15FD-BA39-44D5-9BAE-5DD41E2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2E5BC-50D8-4BBE-A1F4-860A5C0F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725-0623-448D-A35A-A268C5C2F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49FF-D5CF-4880-9FF7-00D751045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EDF-733E-4FAC-BCD9-1613EAB23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8CEE-5877-4563-B5DD-9EADCEB43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077-14DF-46F6-896D-8B3F2D2BB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ECDA-9DD8-4A26-9F8B-55B01E9D9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C27-5199-409D-92EF-E25EF4AC5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A1F-91E7-492B-80C9-EF2C1A7C1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20C2-0877-4807-A656-E95436FEE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EDA-3438-4D38-8755-7F96B149F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D454-26C4-4664-BEEE-09B8BBCD70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BED6-5700-46CD-BA68-3110E2828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mat.com/" TargetMode="External"/><Relationship Id="rId2" Type="http://schemas.openxmlformats.org/officeDocument/2006/relationships/hyperlink" Target="http://www.flowof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MATIC BOOK REPOR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MMA SHAPLAN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CS CLASS 6X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1-18-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Keeping Corn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li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7" descr=""/>
          <p:cNvPicPr/>
          <p:nvPr/>
        </p:nvPicPr>
        <p:blipFill>
          <a:blip r:embed="rId1"/>
          <a:stretch/>
        </p:blipFill>
        <p:spPr>
          <a:xfrm>
            <a:off x="291960" y="2871720"/>
            <a:ext cx="8523360" cy="3168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8"/>
          <p:cNvSpPr/>
          <p:nvPr/>
        </p:nvSpPr>
        <p:spPr>
          <a:xfrm>
            <a:off x="609480" y="16002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e conflict is between Leela wants for herself and what society expects of her:  “A widow’s life is a living death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li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Content Placeholder 3" descr=""/>
          <p:cNvPicPr/>
          <p:nvPr/>
        </p:nvPicPr>
        <p:blipFill>
          <a:blip r:embed="rId1"/>
          <a:stretch/>
        </p:blipFill>
        <p:spPr>
          <a:xfrm>
            <a:off x="291960" y="2567160"/>
            <a:ext cx="8523360" cy="35524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533520" y="1600200"/>
            <a:ext cx="8076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also a conflict between India and Britain, which rules India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Freedom can overcome oppress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You should be willing to find a new wa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ela was oppressed by tradition and beliefs about widow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widow’s arms are forever quiet.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Indian people were oppressed by Brit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oth Leela and the Indian people had to decide which path to take: the old way or the new wa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eing a widow means keeping corner for the rest of your life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hen society paves the road, you do not have to follow it—Emma Shapl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m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uth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ame: Kashmira Sheth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Biography: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orn in Bhavangar, India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oved to U.S. to attend Iowa State University at 17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Earned microbiology degre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ecided to become author after inspiring letter from uncl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urrently lives in Madison, Wisconsin with her husband and two daughter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ther Books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Georgia"/>
              </a:rPr>
              <a:t>Blue Jasmin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Georgia"/>
              </a:rPr>
              <a:t>Koyal Dark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Georgia"/>
              </a:rPr>
              <a:t>Mango Swee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anguages: Hindi, Gujarati, English and Sanskri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avorite Genre: Historical fi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wards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2006-07 Iowa Children’s Choice Award Nominee; Oklahoma’s 2007 Children’s Sequoyah Award Masterlist; Paul Zoindel First Novel Award; 2005 Oppenheim Toy Portfolio Platinum Award; ALA Great Middle School Reads; CCBC Choice 2005 (source www.community.livejounal.com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eeping Corner’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igious and Other Belief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storical Events and Figur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in Charact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o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fli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m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uth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tt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year is 1918, nearly 100 before 2009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e are in Indi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ritish rule over India as a colo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Hindu relig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aste system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 a small village called Jamle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 cars or pavement, but carriages driven by livestock on dirt road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any fairs, events and dinn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 a Brahman Household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irt floo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ed with a Bulloc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urtyar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xtended family liv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Content Placeholder 4" descr="3009275110_b48a82de27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16480" cy="21333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home.jpg"/>
          <p:cNvPicPr/>
          <p:nvPr/>
        </p:nvPicPr>
        <p:blipFill>
          <a:blip r:embed="rId2"/>
          <a:stretch/>
        </p:blipFill>
        <p:spPr>
          <a:xfrm>
            <a:off x="4572000" y="3886200"/>
            <a:ext cx="43434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ligious and Other Belief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456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induism: polytheism, Rama is key go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aste System: several social classes of traditional Hindu soci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ahman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indu belonging to the highest cast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ubject to strict ru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xample:  Widows must “keep corner”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– stay confined to your house for a yea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idowhoo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eep Corn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ourn the loss of your husban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have hea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hunned by all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Caste%20System%20Diagram%2006_05.jpg"/>
          <p:cNvPicPr/>
          <p:nvPr/>
        </p:nvPicPr>
        <p:blipFill>
          <a:blip r:embed="rId1"/>
          <a:stretch/>
        </p:blipFill>
        <p:spPr>
          <a:xfrm>
            <a:off x="5562720" y="2590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368000" y="3200040"/>
            <a:ext cx="64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ITISH RU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- AND 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GANDH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Historical Events and Figur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British Rule</a:t>
            </a:r>
            <a:br>
              <a:rPr sz="2200"/>
            </a:br>
            <a:br>
              <a:rPr sz="2200"/>
            </a:br>
            <a:r>
              <a:rPr b="1" lang="en-US" sz="1000" spc="-1" strike="noStrike">
                <a:solidFill>
                  <a:srgbClr val="ffffff"/>
                </a:solidFill>
                <a:latin typeface="Georgia"/>
              </a:rPr>
              <a:t>www.flowofhistory.com</a:t>
            </a:r>
            <a:endParaRPr b="0" lang="en-US" sz="1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Diagram 16" descr=""/>
          <p:cNvPicPr/>
          <p:nvPr/>
        </p:nvPicPr>
        <p:blipFill>
          <a:blip r:embed="rId1"/>
          <a:stretch/>
        </p:blipFill>
        <p:spPr>
          <a:xfrm>
            <a:off x="3017880" y="530280"/>
            <a:ext cx="5918040" cy="3743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Placeholder 7" descr="british rule.jpg"/>
          <p:cNvPicPr/>
          <p:nvPr/>
        </p:nvPicPr>
        <p:blipFill>
          <a:blip r:embed="rId2"/>
          <a:stretch/>
        </p:blipFill>
        <p:spPr>
          <a:xfrm>
            <a:off x="3048120" y="4419720"/>
            <a:ext cx="586728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7" descr="IWM_IndianLancerHaifa1918.jpg"/>
          <p:cNvPicPr/>
          <p:nvPr/>
        </p:nvPicPr>
        <p:blipFill>
          <a:blip r:embed="rId3"/>
          <a:stretch/>
        </p:blipFill>
        <p:spPr>
          <a:xfrm>
            <a:off x="228600" y="2590920"/>
            <a:ext cx="2590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236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Gandhi</a:t>
            </a:r>
            <a:br>
              <a:rPr sz="2200"/>
            </a:br>
            <a:r>
              <a:rPr b="0" lang="en-US" sz="1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camat.com</a:t>
            </a:r>
            <a:br>
              <a:rPr sz="1200"/>
            </a:br>
            <a:r>
              <a:rPr b="0" lang="en-US" sz="12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www.flowof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history.com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www.indianchild.com</a:t>
            </a:r>
            <a:endParaRPr b="0" lang="en-US" sz="1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124080" y="685800"/>
            <a:ext cx="56390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ow you act is more important than what you achie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t Satygarah against British ru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77880" indent="-23184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atygarah  = peaceful resistance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3" marL="1203480" indent="-231840">
              <a:lnSpc>
                <a:spcPct val="90000"/>
              </a:lnSpc>
              <a:spcBef>
                <a:spcPts val="524"/>
              </a:spcBef>
              <a:buClr>
                <a:srgbClr val="8c7b7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Saty = truth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203480" indent="-231840">
              <a:lnSpc>
                <a:spcPct val="90000"/>
              </a:lnSpc>
              <a:spcBef>
                <a:spcPts val="524"/>
              </a:spcBef>
              <a:buClr>
                <a:srgbClr val="8c7b7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agrah = insistence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illing to go to jail for Satygara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77880" indent="-23184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ent to jail many times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677880" indent="-23184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pent 7 years in jail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andhi became voice of Indian National Congress in 192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ced Britain to give India independence in 1947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Killed in 1947 by one of his follower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Content Placeholder 15" descr="gandhi02.jpg"/>
          <p:cNvPicPr/>
          <p:nvPr/>
        </p:nvPicPr>
        <p:blipFill>
          <a:blip r:embed="rId3"/>
          <a:stretch/>
        </p:blipFill>
        <p:spPr>
          <a:xfrm>
            <a:off x="304920" y="220968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in Charac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ela is 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3-year-old Indian girl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of the Brahman caste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he lives with h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 (mother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puji (father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aka (paternal uncle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aki (uncle’s wif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he wa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ngaged at two,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arried at nine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lanning at 13 to move into the home of her husban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Content Placeholder 6" descr="sheth_keeping.jpg"/>
          <p:cNvPicPr/>
          <p:nvPr/>
        </p:nvPicPr>
        <p:blipFill>
          <a:blip r:embed="rId1"/>
          <a:stretch/>
        </p:blipFill>
        <p:spPr>
          <a:xfrm>
            <a:off x="5313240" y="1752480"/>
            <a:ext cx="30132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4" descr=""/>
          <p:cNvPicPr/>
          <p:nvPr/>
        </p:nvPicPr>
        <p:blipFill>
          <a:blip r:embed="rId1"/>
          <a:stretch/>
        </p:blipFill>
        <p:spPr>
          <a:xfrm>
            <a:off x="225360" y="1511280"/>
            <a:ext cx="86630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55:36Z</dcterms:created>
  <dc:creator>AP</dc:creator>
  <dc:description/>
  <dc:language>en-US</dc:language>
  <cp:lastModifiedBy>AP</cp:lastModifiedBy>
  <dcterms:modified xsi:type="dcterms:W3CDTF">2009-11-18T02:21:46Z</dcterms:modified>
  <cp:revision>50</cp:revision>
  <dc:subject/>
  <dc:title>Keeping Corner</dc:title>
</cp:coreProperties>
</file>